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C32-905A-4CA1-B940-B94CDF25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955-93B1-4562-8C9D-BE0BCCFE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199-4540-4DBA-A1AD-3696CA39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EA5-B104-4C21-BAF3-B18B4B66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28B9-A6D1-4216-A20C-FD73E7C0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361D-1644-46F8-9B4F-95A8D6ED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F62C-5A0A-4D0D-9039-E540EB5E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C04A-2EE9-401A-AA93-CD98B121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5088-F61C-4FDC-87B6-D9E5CF12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D94C-B80A-4759-9261-C6F122C6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C10C-69CC-432B-B435-A8B47BC2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E72-55E8-4174-AF78-035022D5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1396-79CF-4E6B-9623-3C3F635B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5772-4D01-453D-8E40-B90474DA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B8A6-5F1A-4D43-9E2F-07583AC1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6E9C-D92B-4C79-84CC-2458B35C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6B7E-E9DD-4C56-AD15-D37B1F22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D3E-8AB2-4933-AE6D-47DFD44B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EE7-CF3D-4A1F-AB3E-302549FE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32C-16D7-42BB-A221-B1483E68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BA4-C959-4B0D-BFD9-4AA4C700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06B-3F1A-4691-97A0-F52F092D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21A-DA0F-42C5-8AB5-EAA127F1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4A7-91BD-490C-987D-188F9CC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0934-EEF0-4C18-8026-604079AE5C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51F0-DA3B-449E-A038-E96BB141CF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99480" cy="727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380880"/>
            <a:ext cx="358128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Britannic Bold"/>
              </a:rPr>
              <a:t>A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otrophic Lateral Scle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03840" y="3429000"/>
            <a:ext cx="2540160" cy="303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53080" y="762120"/>
            <a:ext cx="2895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Lou Gehrig’s Dis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4380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380880"/>
            <a:ext cx="3353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What happens to people with ALS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4724280"/>
            <a:ext cx="304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Before the details….Let’s see a real life examp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59600" y="0"/>
            <a:ext cx="2984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2286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What happens to people with ALS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Macintosh HD:Users:mitch50154:Downloads:WFMY News 2 - Teacher Battles Lou Gehrigs Disease.mov" descr=""/>
          <p:cNvPicPr/>
          <p:nvPr/>
        </p:nvPicPr>
        <p:blipFill>
          <a:blip r:embed="rId2"/>
          <a:stretch/>
        </p:blipFill>
        <p:spPr>
          <a:xfrm>
            <a:off x="2035080" y="1522440"/>
            <a:ext cx="5081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80880"/>
            <a:ext cx="22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hat happened to the guy in the vide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43200" y="304920"/>
            <a:ext cx="6400800" cy="4560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19520" y="5334120"/>
            <a:ext cx="601956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be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 Bold"/>
              </a:rPr>
              <a:t>Motor Neurons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be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 Bold"/>
              </a:rPr>
              <a:t>This causes muscle to become weak and eventually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be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019920" y="1980720"/>
            <a:ext cx="114300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391520" y="3581280"/>
            <a:ext cx="3808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2:37:08Z</dcterms:created>
  <dc:creator>Mitchell Singsheim</dc:creator>
  <dc:description/>
  <dc:language>en-US</dc:language>
  <cp:lastModifiedBy>Mitchell Singsheim</cp:lastModifiedBy>
  <dcterms:modified xsi:type="dcterms:W3CDTF">2011-05-12T03:31:54Z</dcterms:modified>
  <cp:revision>3</cp:revision>
  <dc:subject/>
  <dc:title>PowerPoint Presentation</dc:title>
</cp:coreProperties>
</file>